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C0E-3169-42CE-ACC6-38E6E083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1BC-D744-482D-B561-C7281217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175-8204-46AA-8AE0-FC8C828E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61C-6EE9-49C4-B171-06989F87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559-BA9D-4A55-86BE-4011D4E6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DCD-F148-4DE5-B181-D021F4F0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70A-8FA7-4899-81F0-3AECF9F5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9E1-D305-4D4C-8564-8259205E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044-673C-4FF7-B1BD-57A7349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576-276F-4771-ADE3-6FA69C0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AE2-9024-4A36-AE1B-4ED4EF7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D58-2E7A-4133-83AB-6EB54B2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9033-98EB-4053-A242-A92F6258B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ylan But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990720" y="2514600"/>
            <a:ext cx="57909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1676520" y="2895480"/>
            <a:ext cx="4462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static.ddmcdn.com/gif/willow/ancient-greece0.gif"/>
          <p:cNvPicPr/>
          <p:nvPr/>
        </p:nvPicPr>
        <p:blipFill>
          <a:blip r:embed="rId1"/>
          <a:stretch/>
        </p:blipFill>
        <p:spPr>
          <a:xfrm>
            <a:off x="1905120" y="2438280"/>
            <a:ext cx="4343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1676520" y="2209680"/>
            <a:ext cx="49528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t1.gstatic.com/images?q=tbn:ANd9GcTD-8uShODqs-6qAVblR7AHkZqCBJCQ7Xvi-Z3XGEaMxzOfoTNM"/>
          <p:cNvPicPr/>
          <p:nvPr/>
        </p:nvPicPr>
        <p:blipFill>
          <a:blip r:embed="rId1"/>
          <a:stretch/>
        </p:blipFill>
        <p:spPr>
          <a:xfrm>
            <a:off x="2666880" y="2819520"/>
            <a:ext cx="4407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63360" y="-380880"/>
            <a:ext cx="12477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752480" y="2755800"/>
            <a:ext cx="5639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historylink101.net/greek_images/acropolis-from-below.jpg"/>
          <p:cNvPicPr/>
          <p:nvPr/>
        </p:nvPicPr>
        <p:blipFill>
          <a:blip r:embed="rId1"/>
          <a:stretch/>
        </p:blipFill>
        <p:spPr>
          <a:xfrm>
            <a:off x="1447920" y="1828800"/>
            <a:ext cx="67816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reece-athens.com/places_images/31.jpg"/>
          <p:cNvPicPr/>
          <p:nvPr/>
        </p:nvPicPr>
        <p:blipFill>
          <a:blip r:embed="rId1"/>
          <a:stretch/>
        </p:blipFill>
        <p:spPr>
          <a:xfrm>
            <a:off x="1219320" y="175248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533520" y="1676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acksonmanngradesix.weebly.com/uploads/6/5/2/2/6522842/4323090.png?345"/>
          <p:cNvPicPr/>
          <p:nvPr/>
        </p:nvPicPr>
        <p:blipFill>
          <a:blip r:embed="rId1"/>
          <a:stretch/>
        </p:blipFill>
        <p:spPr>
          <a:xfrm>
            <a:off x="1981080" y="2100240"/>
            <a:ext cx="60962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1295280" y="2719440"/>
            <a:ext cx="5334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orm Greece but kept economic ties with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63360" y="-474840"/>
            <a:ext cx="12765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1371600" y="2590920"/>
            <a:ext cx="53341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1143000" y="2819520"/>
            <a:ext cx="6554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3.gstatic.com/images?q=tbn:ANd9GcQw3cTmq9V5MaZmD7vm_83NKb3McAItCvj4s5e068NkvfJ4g44X"/>
          <p:cNvPicPr/>
          <p:nvPr/>
        </p:nvPicPr>
        <p:blipFill>
          <a:blip r:embed="rId1"/>
          <a:stretch/>
        </p:blipFill>
        <p:spPr>
          <a:xfrm>
            <a:off x="1600200" y="2895480"/>
            <a:ext cx="6172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2417760"/>
            <a:ext cx="41911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2:23Z</dcterms:modified>
  <cp:revision>94</cp:revision>
  <dc:subject/>
  <dc:title>Ancient Greece</dc:title>
</cp:coreProperties>
</file>